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CF8-E1F8-470D-AB6D-C692C9CF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0F1-4CF2-4A13-ABA0-25E29B3A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038-10BC-4273-B048-7A6DC9BD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F46-1B3F-4BE6-81F2-FB54CA2B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854-6217-4071-B6F7-75F7B6F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689-3EF9-4C60-80C6-B4C21D31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994-4E93-4C53-9066-92949F8A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655-227C-4962-B0D0-696EA823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5F7-9E5E-4B1E-887C-FC911464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C6B-0BEE-4B8F-B018-6B15C815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27B-0019-4290-94D5-A3F59E6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A9F-FFFA-40F1-8700-5BE0995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7FA-F3B2-421F-BC43-1A9BD61261A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5B2D-C665-41DA-96DE-E45169A5513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16160" y="3130200"/>
            <a:ext cx="471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三节  拟定保护生态环境的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7520" y="1768320"/>
            <a:ext cx="905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七章 人类活动对生物圈的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速生丰产林基地"/>
          <p:cNvPicPr/>
          <p:nvPr/>
        </p:nvPicPr>
        <p:blipFill>
          <a:blip r:embed="rId1"/>
          <a:stretch/>
        </p:blipFill>
        <p:spPr>
          <a:xfrm>
            <a:off x="857160" y="1511280"/>
            <a:ext cx="7505640" cy="4657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3983040" y="870120"/>
            <a:ext cx="125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速生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风力发电厂"/>
          <p:cNvPicPr/>
          <p:nvPr/>
        </p:nvPicPr>
        <p:blipFill>
          <a:blip r:embed="rId1"/>
          <a:stretch/>
        </p:blipFill>
        <p:spPr>
          <a:xfrm>
            <a:off x="662040" y="1411200"/>
            <a:ext cx="7819920" cy="4718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97360" y="781200"/>
            <a:ext cx="264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风力发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14320" y="781200"/>
            <a:ext cx="262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发展清洁能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风能和太阳能发电"/>
          <p:cNvPicPr/>
          <p:nvPr/>
        </p:nvPicPr>
        <p:blipFill>
          <a:blip r:embed="rId1"/>
          <a:stretch/>
        </p:blipFill>
        <p:spPr>
          <a:xfrm>
            <a:off x="768240" y="1447920"/>
            <a:ext cx="7607520" cy="4687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949480" y="781200"/>
            <a:ext cx="278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太阳能发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14320" y="781200"/>
            <a:ext cx="232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发展清洁能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太阳能汽车"/>
          <p:cNvPicPr/>
          <p:nvPr/>
        </p:nvPicPr>
        <p:blipFill>
          <a:blip r:embed="rId1"/>
          <a:srcRect l="0" t="9867" r="0" b="11147"/>
          <a:stretch/>
        </p:blipFill>
        <p:spPr>
          <a:xfrm>
            <a:off x="550800" y="1384200"/>
            <a:ext cx="8042400" cy="4772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602160" y="763560"/>
            <a:ext cx="194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太阳能汽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锂电池新型概念车"/>
          <p:cNvPicPr/>
          <p:nvPr/>
        </p:nvPicPr>
        <p:blipFill>
          <a:blip r:embed="rId1"/>
          <a:stretch/>
        </p:blipFill>
        <p:spPr>
          <a:xfrm>
            <a:off x="781200" y="1392120"/>
            <a:ext cx="7581600" cy="4873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51000" y="747720"/>
            <a:ext cx="304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锂电池新型概念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794040" y="812880"/>
            <a:ext cx="155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氢燃料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QQ截图未命名"/>
          <p:cNvPicPr/>
          <p:nvPr/>
        </p:nvPicPr>
        <p:blipFill>
          <a:blip r:embed="rId1"/>
          <a:stretch/>
        </p:blipFill>
        <p:spPr>
          <a:xfrm>
            <a:off x="1066680" y="1652760"/>
            <a:ext cx="6880320" cy="43606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4560" y="1333440"/>
            <a:ext cx="45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拟定保护当地生态环境的计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93880" y="2473200"/>
            <a:ext cx="763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目的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通过调查当地生态环境现状和分析讨论，拟定保护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地生态环境的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认识到每一位公民在保护生态环境方面应尽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材料用具：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笔记本、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7160" y="1884240"/>
            <a:ext cx="779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组调查校园或家庭所在社区的生态环境状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小组成员间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工明确、团结合作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集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行动</a:t>
            </a:r>
            <a:r>
              <a:rPr b="0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可实地调查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安全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，或到当地环境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护部门咨询，也可通过图书馆、报刊杂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电视或互联网收集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57160" y="10936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法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09640" y="1025640"/>
            <a:ext cx="753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每组至少选择一个当地存在的问题，写出具体的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例和近年来采取的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93800" y="2336760"/>
            <a:ext cx="750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析当地生态环境方面出现问题的原因，指出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部门和公民在保护当地生态环境方面应该如何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写出保护当地生态环境的计划（要求抓住关键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力求切实可行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93800" y="4643280"/>
            <a:ext cx="75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每组推选两名代表向全班同学汇报本组调查报告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保护生态环境的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21000" y="1862280"/>
            <a:ext cx="56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1000" y="1270080"/>
            <a:ext cx="5803560" cy="46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拟定保护当地生态环境的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目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材料用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方法步骤：分组分工、展开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选择问题、实地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析原因、写出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推选代表、汇报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4538520" y="3467160"/>
            <a:ext cx="363600" cy="377640"/>
          </a:xfrm>
          <a:prstGeom prst="downArrow">
            <a:avLst>
              <a:gd name="adj1" fmla="val 50000"/>
              <a:gd name="adj2" fmla="val 25946"/>
            </a:avLst>
          </a:prstGeom>
          <a:solidFill>
            <a:srgbClr val="66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518000" y="4322880"/>
            <a:ext cx="363600" cy="384120"/>
          </a:xfrm>
          <a:prstGeom prst="downArrow">
            <a:avLst>
              <a:gd name="adj1" fmla="val 50000"/>
              <a:gd name="adj2" fmla="val 26391"/>
            </a:avLst>
          </a:prstGeom>
          <a:solidFill>
            <a:srgbClr val="66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518000" y="5113440"/>
            <a:ext cx="363600" cy="377640"/>
          </a:xfrm>
          <a:prstGeom prst="downArrow">
            <a:avLst>
              <a:gd name="adj1" fmla="val 50000"/>
              <a:gd name="adj2" fmla="val 25946"/>
            </a:avLst>
          </a:prstGeom>
          <a:solidFill>
            <a:srgbClr val="66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QQ截图未命名"/>
          <p:cNvPicPr/>
          <p:nvPr/>
        </p:nvPicPr>
        <p:blipFill>
          <a:blip r:embed="rId1"/>
          <a:stretch/>
        </p:blipFill>
        <p:spPr>
          <a:xfrm>
            <a:off x="655560" y="1987560"/>
            <a:ext cx="3684600" cy="3120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20100209130116568"/>
          <p:cNvPicPr/>
          <p:nvPr/>
        </p:nvPicPr>
        <p:blipFill>
          <a:blip r:embed="rId2"/>
          <a:stretch/>
        </p:blipFill>
        <p:spPr>
          <a:xfrm>
            <a:off x="4427640" y="1994040"/>
            <a:ext cx="4105080" cy="3105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3600" y="1247400"/>
            <a:ext cx="725040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世界环境日是（    ）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.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 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.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   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.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  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.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优秀调查品质包括（    ）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集体行动　 ②注意安全　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实地调查   ④团结合作，分工明确　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.①②③④          B.①②③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.①②④            D.②③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527280" y="14158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59160" y="30416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87520" y="1116000"/>
            <a:ext cx="79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千年前，黄河中上游的黄土高原曾经森林茂密，鸟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多，生态优越。但是，近百年来人们的掠夺式开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植被破坏，现已成为一片荒山秃岭。每到雨季来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量泥沙冲进黄河，使之成为世界上罕见的“悬河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分析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来生态优越的主要原因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环境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保护作用。在此生态系统中，生物与生物之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及生物与环境之间，都保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245200" y="39560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茂密的森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508720" y="50832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对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19000" y="1930320"/>
            <a:ext cx="698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根据上述实例，说明森林的主要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为了保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国陆续建立了数百个自然保护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830240" y="2584440"/>
            <a:ext cx="46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涵养水源、保持水土、调节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48120" y="3132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物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067360" y="314496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然生态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66720" y="158256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资料：由于生物圈是人类生存、活动、发展的根基，人类要想在地球上生活得安宁舒适，保证子孙后代都有资源可利用，每个人都必须承担保护好生物圈的责任，与一切破坏环境、破坏生态平衡、滥捕乱杀等行为进行斗争，并积极为可更新资源的再生和利用创造条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们应该如何保护当地的生态环境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5840" y="2333520"/>
            <a:ext cx="731232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尝试完成对当地生态环境现状的调查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拟订保护当地生态环境的行动计划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认同作为地球的公民，在保护生态环境方面应尽的责任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3757680" y="151452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退耕还林还草1"/>
          <p:cNvPicPr/>
          <p:nvPr/>
        </p:nvPicPr>
        <p:blipFill>
          <a:blip r:embed="rId1"/>
          <a:stretch/>
        </p:blipFill>
        <p:spPr>
          <a:xfrm>
            <a:off x="900000" y="1879560"/>
            <a:ext cx="7053480" cy="4154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468600" y="990720"/>
            <a:ext cx="220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退耕还林还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退耕还林还草2"/>
          <p:cNvPicPr/>
          <p:nvPr/>
        </p:nvPicPr>
        <p:blipFill>
          <a:blip r:embed="rId1"/>
          <a:stretch/>
        </p:blipFill>
        <p:spPr>
          <a:xfrm>
            <a:off x="1332000" y="1444680"/>
            <a:ext cx="6264360" cy="4765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348000" y="82224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退耕还林还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黄土高原的绿化"/>
          <p:cNvPicPr/>
          <p:nvPr/>
        </p:nvPicPr>
        <p:blipFill>
          <a:blip r:embed="rId1"/>
          <a:stretch/>
        </p:blipFill>
        <p:spPr>
          <a:xfrm>
            <a:off x="735120" y="1427040"/>
            <a:ext cx="7597800" cy="4767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754440" y="795240"/>
            <a:ext cx="15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植树造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茶园"/>
          <p:cNvPicPr/>
          <p:nvPr/>
        </p:nvPicPr>
        <p:blipFill>
          <a:blip r:embed="rId1"/>
          <a:stretch/>
        </p:blipFill>
        <p:spPr>
          <a:xfrm>
            <a:off x="798480" y="1523880"/>
            <a:ext cx="7547040" cy="4657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989440" y="851040"/>
            <a:ext cx="29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生态茶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46000" y="851040"/>
            <a:ext cx="258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发展生态农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桑基鱼塘"/>
          <p:cNvPicPr/>
          <p:nvPr/>
        </p:nvPicPr>
        <p:blipFill>
          <a:blip r:embed="rId1"/>
          <a:stretch/>
        </p:blipFill>
        <p:spPr>
          <a:xfrm>
            <a:off x="736560" y="1393920"/>
            <a:ext cx="7594560" cy="4790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787920" y="814320"/>
            <a:ext cx="156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桑基鱼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00Z</dcterms:created>
  <dc:creator>Administrator</dc:creator>
  <dc:description/>
  <dc:language>en-US</dc:language>
  <cp:lastModifiedBy>Administrator</cp:lastModifiedBy>
  <dcterms:modified xsi:type="dcterms:W3CDTF">2019-01-12T02:13:09Z</dcterms:modified>
  <cp:revision>10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KSORubyTemplateID">
    <vt:lpwstr>13</vt:lpwstr>
  </property>
</Properties>
</file>